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3910-9083-4216-8954-61C67981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EA7-281D-43D1-AAAD-51A2F093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EE5F-2C5A-4EB8-A5B5-3B4E6A30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B1A-B7E9-4CDA-9003-1413C31A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07C1-AD6A-440C-BD37-261D1E5C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4668-553D-4607-AB58-351BB7BD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D8B6-0037-4910-9766-A7E8846E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12EC-41B0-4525-9724-D1740424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CFAE-49C8-4447-8AD4-CF9C4F35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2C4A-9C58-4A46-8F11-E0A7E6D8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CB31-4C92-4216-8C07-7BA4A496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CE6-3978-4F90-B211-1C229BD9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2B65-ADD0-4C5B-BD42-CE7F8356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41C6-869B-4BED-8D9B-1C1F9A75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03C3-C5B7-4819-8B2E-E49C924E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9BBE-03BB-4974-8A2B-934B828A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C9A2-0D7E-464A-91E7-3260D1B9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743BE-6D1B-4D7C-9F79-1C8DE6D7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D2FEA-4D71-4B6A-A35C-311BA8D9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E7F34-D139-4B7D-BC82-8A18DC32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538BA-A41D-49CB-AB55-9270EE17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79B9-4848-4008-B8D6-51E6EB4F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F8F-D037-42C5-A169-7048AD7D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C4D9-13C4-41E3-9732-2B7F0ABF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8AA95-F4BE-4EDA-81C4-554F0DEC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88C8A-BD3A-4D9A-BDDB-0CE28E59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E5234-FD63-4D46-A70A-2F12B0DC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44EE-3087-4E75-9255-6365BBE6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9C6E9-648D-43B0-8ECE-945F1163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607CD-79D2-482E-B585-279BD435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A33E4-8030-4381-8EF9-2A525F48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02D8E-FA2D-4AFE-8E92-BBAFCCF3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C010F-48DB-4380-8A0D-A4BA3D62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E7B2-5272-4A26-8DD4-A0C4480F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CFE43-6F58-49BC-9CE1-8D3A3AB9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5F679-A631-4325-B47F-7900CD9E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D5D8C-14A2-4E90-9348-E4AB190E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6F57D-AC9C-4D97-8147-148BC775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EBAAF-658C-4A20-8590-221AD814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CDB1A-3C03-4986-93ED-9F4F6AEE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6DDD6-12DA-4B34-BE47-B20266B9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8C962-01B4-4DDA-A49A-CFC6C33B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8D3AE-8211-472C-A6EA-3660DB90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304AE-CB61-4477-B1DA-1312FA27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96D-131E-4A97-B228-3FD4704D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35D8F-14FC-464C-A2E3-09F5375B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98169-BEBF-46B4-A7D7-E6E3F401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3F748-6DE9-42C7-924E-986D94D9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B134A-DC0A-4AA1-8883-FD373C07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5D625-1211-411A-ABDE-F7159EFE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95E9C-04FC-414E-9DF5-F823FDC2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D7D1F-7B25-4F7E-ABB0-6BAC234A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144B4-3F53-4BC2-82E2-93F4B45C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780E5-D0E8-406B-9AB1-4612FCA5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29612-BECF-4D42-9CF7-26939062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305-4EA6-4276-A7F2-2508955E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5BFA4-EC04-4196-ABE3-DEB78888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54D19-8F36-4FF5-BB67-E421B88C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7EC80-C5B5-4834-8DD3-9A3B500B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A3080-A5E0-4750-8025-C6B49BE7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B2FF3-64A3-4EE8-9488-15404C2A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7DC21-7E6D-415D-8900-4D62AEA4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D9CB8-51EE-4731-B5D2-CF73D317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8256B-F513-4BD8-AF3F-CE12494B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5FFBC-A7F2-4AF5-9ED7-D0359EE3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FE5C5-ADC4-4B3A-84CE-552CD60B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095-FCB0-4905-8EFA-535B3A0B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C7E78-3CC5-4D24-B8F4-6319C2B8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3FBF1-6DB1-41C6-9B7B-BA842650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BC1B3-6B82-4D79-B18F-AA917183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2FD-8D3C-4CB8-A0A6-CCD2445C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D79-DF55-495F-8EBC-3379C1F3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1672-EADF-4F19-9CB8-C035A24ADF12}" type="slidenum"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8000" y="0"/>
                <a:ext cx="1821240" cy="49381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2600"/>
                <a:ext cx="9144000" cy="287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EA86-C2F5-4447-99FC-D883292F971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2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14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69A0-C795-496F-81BF-6078347DF8A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3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1E9A-3673-4D3F-BC41-051ADBE852CB}" type="slidenum"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3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E259-FEBB-489F-B8AF-CB9D348F3098}" type="slidenum"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3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015B-AB5C-4F72-9375-4B5DC41FD855}" type="slidenum"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Subtitle 2" descr=""/>
          <p:cNvPicPr/>
          <p:nvPr/>
        </p:nvPicPr>
        <p:blipFill>
          <a:blip r:embed="rId1"/>
          <a:stretch/>
        </p:blipFill>
        <p:spPr>
          <a:xfrm>
            <a:off x="1841400" y="5834160"/>
            <a:ext cx="6637320" cy="5000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4760" y="4648320"/>
            <a:ext cx="65530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NDOOR AIR QUALITY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STRICT IAQ TEA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057040" y="1980720"/>
            <a:ext cx="6629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Steve Dalzell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Bill Caruso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Steve Beals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Eric Greenfield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Janet Brough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Andy Mercer/Sue Goulet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Brian Connelly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Joanna Bergman/Joanne Joy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Anne Barach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a nurse that will take a strong leadership role--You know a few of them-Who can we ask? Gina McGuire/WH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WHY CARE ABOUT IAQ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sthma and allergy reducti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mproved staff and student attendanc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mproved ability to learn and teac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ALL STAFF EDUCATION NEEDS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057040" y="1904760"/>
            <a:ext cx="6629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declutter for efficient cleaning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unblock all vents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use natural light/shut light off when possible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remove unauthorized cleaners and use school approved ones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use labeled containers only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learn disinfecting procedures with approved solutions-remove bleach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don't use air fresheners or strong perfumes/colognes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report issues through school dude?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SCHOOL WALK-THROUGH TEA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acility Manag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each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retary/Paraeducato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tudents-as availabl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chool Nurs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8:57:19Z</dcterms:created>
  <dc:creator>Janet Brough</dc:creator>
  <dc:description/>
  <dc:language>en-US</dc:language>
  <cp:lastModifiedBy>Janet Brough</cp:lastModifiedBy>
  <dcterms:modified xsi:type="dcterms:W3CDTF">2010-07-22T16:16:14Z</dcterms:modified>
  <cp:revision>8</cp:revision>
  <dc:subject/>
  <dc:title>Indoor Air Quality</dc:title>
</cp:coreProperties>
</file>